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45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0.png" ContentType="image/png"/>
  <Override PartName="/ppt/media/image38.jpeg" ContentType="image/jpeg"/>
  <Override PartName="/ppt/media/image30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D403-3690-4736-BC32-A5A3ECC7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F8D5-37DA-48F7-923D-6E99F3E6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843E-E648-456E-8E95-35E24719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7EC-0AF6-4546-B509-61D31A38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C35-6ABD-4EB3-968D-30D6F2AB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1A2-E517-4CEE-AED9-C6FA7026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877-74E6-4D6D-AC60-3B612407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62F-D04E-4565-9F9F-C44DCDDE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EA3-0DA6-410C-ADFA-F8FED23E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283-F39D-4DF9-8BE7-D6DEB952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BDB-9054-486B-8636-AB11E2BF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C23-23B9-43A8-8BF7-550E29D2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7B5F-B941-4C14-A374-BF6652A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27E-C7B9-4F57-AEBC-CB3AD2B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C13C-8221-4A4E-833B-01344DF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E02-AD56-48ED-B31C-EF2C1838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67B-B6DB-46CE-9544-30607101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550F-1884-45DB-A63F-5FCDE87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0D5-E898-4B56-9EA8-E398A024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4AE-6F27-4F63-BD49-AAF9B7E1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7536-2541-435D-ACBA-4BFAFA3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009B-6E7A-4248-97C3-9CBCC5F7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2D68-CE51-4550-A3ED-EFF282C3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B7A-6402-47C2-839A-791A6C3A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154-143D-42F3-A841-3D2D949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2FA-6881-4B1F-A752-12704F1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82B-C281-42D1-9F13-D871B08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CD6-2384-435F-A112-2F3B0FC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762-CBD0-4B14-B111-467E1E7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364-A3C5-4491-9555-5042D4FD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8D1-1E57-4153-B9C8-ADC0603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24BD-ED7D-4814-B999-AE2ED06611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4D2C-A007-4233-82C7-6ED2CD2087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36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cybercomm.nl/%7Eivo/photo_GEORGE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chool District 43 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30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inslow Centre, Coquit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</a:t>
            </a:r>
            <a:r>
              <a:rPr b="1" lang="en-US" sz="3200" spc="-1" strike="noStrike">
                <a:solidFill>
                  <a:srgbClr val="009973"/>
                </a:solidFill>
                <a:latin typeface="Arial"/>
              </a:rPr>
              <a:t>“needs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ain the sa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7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995360" y="413856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imagesCAOEUU8Y.jpg"/>
          <p:cNvPicPr/>
          <p:nvPr/>
        </p:nvPicPr>
        <p:blipFill>
          <a:blip r:embed="rId7"/>
          <a:stretch/>
        </p:blipFill>
        <p:spPr>
          <a:xfrm>
            <a:off x="4619520" y="103176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631280" y="4836600"/>
            <a:ext cx="1215720" cy="121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imagesCA71CM7J.jpg"/>
          <p:cNvPicPr/>
          <p:nvPr/>
        </p:nvPicPr>
        <p:blipFill>
          <a:blip r:embed="rId13"/>
          <a:stretch/>
        </p:blipFill>
        <p:spPr>
          <a:xfrm>
            <a:off x="6012000" y="27511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imagesCAW4N5TV.jpg"/>
          <p:cNvPicPr/>
          <p:nvPr/>
        </p:nvPicPr>
        <p:blipFill>
          <a:blip r:embed="rId14"/>
          <a:stretch/>
        </p:blipFill>
        <p:spPr>
          <a:xfrm>
            <a:off x="177840" y="400536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17"/>
          <a:stretch/>
        </p:blipFill>
        <p:spPr>
          <a:xfrm>
            <a:off x="2351160" y="733320"/>
            <a:ext cx="1542960" cy="154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untitlewd.bmp"/>
          <p:cNvPicPr/>
          <p:nvPr/>
        </p:nvPicPr>
        <p:blipFill>
          <a:blip r:embed="rId18"/>
          <a:stretch/>
        </p:blipFill>
        <p:spPr>
          <a:xfrm rot="20406000">
            <a:off x="649440" y="1028520"/>
            <a:ext cx="190476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2436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205240" y="3774960"/>
            <a:ext cx="292752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628560" y="907920"/>
            <a:ext cx="8045640" cy="5774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9960" y="1089000"/>
            <a:ext cx="850104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92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Impact"/>
              </a:rPr>
              <a:t>U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78144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Google: Connect and Protect wi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348000" y="3540240"/>
            <a:ext cx="331164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7" descr=""/>
          <p:cNvPicPr/>
          <p:nvPr/>
        </p:nvPicPr>
        <p:blipFill>
          <a:blip r:embed="rId2"/>
          <a:stretch/>
        </p:blipFill>
        <p:spPr>
          <a:xfrm>
            <a:off x="3780000" y="4522680"/>
            <a:ext cx="164592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8" descr=""/>
          <p:cNvPicPr/>
          <p:nvPr/>
        </p:nvPicPr>
        <p:blipFill>
          <a:blip r:embed="rId3"/>
          <a:stretch/>
        </p:blipFill>
        <p:spPr>
          <a:xfrm>
            <a:off x="1189080" y="4943520"/>
            <a:ext cx="149364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9" descr=""/>
          <p:cNvPicPr/>
          <p:nvPr/>
        </p:nvPicPr>
        <p:blipFill>
          <a:blip r:embed="rId4"/>
          <a:stretch/>
        </p:blipFill>
        <p:spPr>
          <a:xfrm>
            <a:off x="6010200" y="4224240"/>
            <a:ext cx="228600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ine? (Facebook? MySpace? Twitter? Other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Chatting On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 tonight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1327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ocated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limits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-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 u="sng">
                <a:solidFill>
                  <a:srgbClr val="00664d"/>
                </a:solidFill>
                <a:uFillTx/>
                <a:latin typeface="Arial"/>
              </a:rPr>
              <a:t>family expectation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hildren around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actical, proactive strateg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your children around healthy technology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The Bridge"/>
          <p:cNvPicPr/>
          <p:nvPr/>
        </p:nvPicPr>
        <p:blipFill>
          <a:blip r:embed="rId1"/>
          <a:stretch/>
        </p:blipFill>
        <p:spPr>
          <a:xfrm>
            <a:off x="2998800" y="3398760"/>
            <a:ext cx="3019320" cy="22287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56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80760" y="64404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7520" y="836280"/>
            <a:ext cx="37861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498600" y="3892680"/>
            <a:ext cx="1238040" cy="2381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photo_GEO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22400" y="4592520"/>
            <a:ext cx="1629000" cy="127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jeannie001"/>
          <p:cNvPicPr/>
          <p:nvPr/>
        </p:nvPicPr>
        <p:blipFill>
          <a:blip r:embed="rId5"/>
          <a:stretch/>
        </p:blipFill>
        <p:spPr>
          <a:xfrm rot="20797800">
            <a:off x="4751280" y="159336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oodstock Festival Remembered"/>
          <p:cNvPicPr/>
          <p:nvPr/>
        </p:nvPicPr>
        <p:blipFill>
          <a:blip r:embed="rId7"/>
          <a:stretch/>
        </p:blipFill>
        <p:spPr>
          <a:xfrm rot="604200">
            <a:off x="6484680" y="3841920"/>
            <a:ext cx="1714320" cy="209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appy days.jpg"/>
          <p:cNvPicPr/>
          <p:nvPr/>
        </p:nvPicPr>
        <p:blipFill>
          <a:blip r:embed="rId8"/>
          <a:stretch/>
        </p:blipFill>
        <p:spPr>
          <a:xfrm>
            <a:off x="2655720" y="205740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gilligans-island-season-2.jpg"/>
          <p:cNvPicPr/>
          <p:nvPr/>
        </p:nvPicPr>
        <p:blipFill>
          <a:blip r:embed="rId9"/>
          <a:stretch/>
        </p:blipFill>
        <p:spPr>
          <a:xfrm rot="529200">
            <a:off x="7454880" y="51444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tari_2600.png"/>
          <p:cNvPicPr/>
          <p:nvPr/>
        </p:nvPicPr>
        <p:blipFill>
          <a:blip r:embed="rId11"/>
          <a:stretch/>
        </p:blipFill>
        <p:spPr>
          <a:xfrm>
            <a:off x="122400" y="555480"/>
            <a:ext cx="177480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12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3"/>
          <a:stretch/>
        </p:blipFill>
        <p:spPr>
          <a:xfrm>
            <a:off x="3854520" y="4889520"/>
            <a:ext cx="1616040" cy="16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761760"/>
            <a:ext cx="471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156360" y="59403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374920" cy="341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4873680" y="4224240"/>
            <a:ext cx="203832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5-01T01:44:02Z</dcterms:modified>
  <cp:revision>96</cp:revision>
  <dc:subject/>
  <dc:title>Technology, kids and you</dc:title>
</cp:coreProperties>
</file>